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440-5B07-44D5-86CE-11F4EA12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667-7107-479B-8470-AB81FF18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9E7-C366-4A57-B0EE-BE0E265C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701-643D-4EDB-A117-EF0906C1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511-2D8F-45CD-9DEE-9323AC5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DB2-4E10-437D-9C78-83509033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920-4791-428C-B102-6056E61E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819-E5A4-4FB9-999E-1C97E6F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F45-BD61-43AD-9852-D7ADEA5C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3B4-F039-4E2E-9F19-DB95E2D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4B5-9A07-4DF5-9CB3-E0D2826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3E0-C482-43DA-9D05-1193F097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F309-4701-425B-85A9-35D805A69D1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, 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covery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vers hardware &amp; software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ication of mission critical IC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a backup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ulation of variety of disasters &amp; recover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, reliability and timeliness in terms of storage, communication and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uracy, eg. storage, it contains all data; communication, arrives accurately, no viruses; disposal, selected files delet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luate physical &amp; software security, eg. audit tr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ase of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bservance of folder &amp;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ed up files need to be able to be re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urrency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sequential file-naming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Evaluating the effectiveness of data security management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7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a risk manage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o can get access to physical environment &amp;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ti virus software, is it being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asswords, changed &amp; che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ganisations require policies to define how an information system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ventions: subject heading &amp; message priority; signature of person sending it; privacy disclaimer at end of email; use of appropriate language; attachments sent in appropriat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le-naming conven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lude datestamp, eg. newsletter 2006-11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ariation, newsletter 2006-11 v3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quential file-naming convention, newsletter 2006-11 03oct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, meaning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 directo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ll backup, 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l backup, files that have changed since last full backup, uses only 2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mental backup, files changed only back up data that has changed since the last back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maller, faster than differ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remental backups give much greater flexibility they take longer to restore because the backup has to be reconstituted from the last full backup and all the incremental backups si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ackup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toration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me name o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ckup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andparent-parent-chil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cremental backup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erential backup at end of each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ll backup end of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eproof &amp; waterproof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mote location, eg. anothe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f-site backup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est back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ecurity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rchiving/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gal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ored on same type of media as ba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ored in simila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icies required for dis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document with steps needed to restore company operations in event of a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ur key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mergenc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s &amp; contact details of people to no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cedures to follow with computer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vacuation procedures for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turn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isaster Recover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ck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alternative sites &amp;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cation of backup data, supplies, eq/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nel responsible for gathering backup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chedule indicating order &amp; approximate time applications up and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26:59Z</dcterms:created>
  <dc:creator>Kelvin Baird</dc:creator>
  <dc:description/>
  <dc:language>en-US</dc:language>
  <cp:lastModifiedBy>01421606</cp:lastModifiedBy>
  <dcterms:modified xsi:type="dcterms:W3CDTF">2009-08-19T07:14:05Z</dcterms:modified>
  <cp:revision>5</cp:revision>
  <dc:subject/>
  <dc:title>Security, Security Procedures</dc:title>
</cp:coreProperties>
</file>